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0766-C059-46EA-8C8D-B5F2E134A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B9B5-4281-495C-8CDA-EE9D4AED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6347-E40B-4284-BC59-199FCF2B3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36FB-3142-4647-A1DB-4B8A5753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848A-1F47-4B49-8ABE-A92D9C6F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6C56-B965-422C-9604-71C2C2B6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805B-A731-4A01-926F-F6F939BE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F9DB-D175-41D2-836B-DC1D021F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6473-72B1-4192-B76A-A0317DDE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39D6-0579-460B-9F9B-5F546AF0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9E93-500A-4A4A-B766-EA000428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0DD0-1A38-4593-8AF4-7F0A686A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8703-D45F-4FF1-A26C-C1CDEE65EBC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ataliz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ompuestos que aumentan la velocidad de una reacción y que no se consumen durante la mis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structura Proteína: enz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structura RNA: riboz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oléculas específicas (Pt, ácidos, bases, nucleófil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ataliz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iológicos: Enzimas y Riboz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Eficienci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(10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– 10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veces la velocidad de una reacción no cataliz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Especificidad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(cada catalizador participa en la transformación de un tipo de grupo quím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oléculas Inorgánicas y Orgá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Eficienci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hasta 10 veces la velocidad de una reacción no cataliz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Inespecífic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(cada catalizador participa en la transformación de muchos grupos químicos diferent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atalizadores Biológ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76680" y="2403360"/>
            <a:ext cx="9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 +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20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2438280"/>
            <a:ext cx="762120" cy="152640"/>
          </a:xfrm>
          <a:prstGeom prst="rightArrow">
            <a:avLst>
              <a:gd name="adj1" fmla="val 50000"/>
              <a:gd name="adj2" fmla="val 12482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2666880"/>
            <a:ext cx="761760" cy="152640"/>
          </a:xfrm>
          <a:prstGeom prst="leftArrow">
            <a:avLst>
              <a:gd name="adj1" fmla="val 50000"/>
              <a:gd name="adj2" fmla="val 12476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2000" y="236232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q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87840" y="262584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7120" y="266688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A] [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50080" y="2362320"/>
            <a:ext cx="28112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[AB]/dt =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[A] [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6440" y="20574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[A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2600" y="1143000"/>
            <a:ext cx="74649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3366"/>
                </a:solidFill>
                <a:uFillTx/>
                <a:latin typeface="Times New Roman"/>
              </a:rPr>
              <a:t>Reacción no catalizada</a:t>
            </a: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: transformación de un sustra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en un producto en ausencia de un cataliz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335268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3366"/>
                </a:solidFill>
                <a:uFillTx/>
                <a:latin typeface="Times New Roman"/>
              </a:rPr>
              <a:t>Reacción catalizada</a:t>
            </a: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: transformación de un sustrato en un   producto en presencia de un cataliz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560" y="5410080"/>
            <a:ext cx="35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[AB]/dt = k [A] [B] [C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457200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02920" y="4495680"/>
            <a:ext cx="87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2880" y="457200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 +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4648320"/>
            <a:ext cx="761760" cy="152280"/>
          </a:xfrm>
          <a:prstGeom prst="rightArrow">
            <a:avLst>
              <a:gd name="adj1" fmla="val 50000"/>
              <a:gd name="adj2" fmla="val 125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09680" y="4876920"/>
            <a:ext cx="762120" cy="152280"/>
          </a:xfrm>
          <a:prstGeom prst="leftArrow">
            <a:avLst>
              <a:gd name="adj1" fmla="val 50000"/>
              <a:gd name="adj2" fmla="val 12511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5181480"/>
            <a:ext cx="761760" cy="15264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5410080"/>
            <a:ext cx="762120" cy="152640"/>
          </a:xfrm>
          <a:prstGeom prst="leftArrow">
            <a:avLst>
              <a:gd name="adj1" fmla="val 50000"/>
              <a:gd name="adj2" fmla="val 12482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4640" y="510552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t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+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5200" y="510552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 +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5715000"/>
            <a:ext cx="4419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57920" y="5908680"/>
            <a:ext cx="9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 +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02920" y="58672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38280" y="5943600"/>
            <a:ext cx="762120" cy="152280"/>
          </a:xfrm>
          <a:prstGeom prst="rightArrow">
            <a:avLst>
              <a:gd name="adj1" fmla="val 50000"/>
              <a:gd name="adj2" fmla="val 12511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6172200"/>
            <a:ext cx="762120" cy="152280"/>
          </a:xfrm>
          <a:prstGeom prst="leftArrow">
            <a:avLst>
              <a:gd name="adj1" fmla="val 50000"/>
              <a:gd name="adj2" fmla="val 12511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49240" y="449568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q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254720" y="4759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17000" y="4267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A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64360" y="480060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A] [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73400" y="6019920"/>
            <a:ext cx="29134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[AB]/dt =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k’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[A] [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Catalizadores Biológ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La concentración de sustrato, la concentración de catalizador (enzima, ribozima), el pH y la temperatura afectan la velocidad de reacción catalizada por un catalizador biológ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La presencia de activadores y de inhibidores de los catalizadores biológicos modifican la velocidad de re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eparación de proteínas y de ácidos nucleicos por electrofor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provecha la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presencia de carg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superficiales en la proteínas (enzimas) y en los ácidos nucleicos (fosfato del enlace fosfodiéster) para separarlos al aplicar una diferencia de poten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Separación de proteín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en geles de poliacrilamida. Electroforesis se realiza en forma vertical. Las proteínas se visualizan en el visible después de tinción con azul de Coomass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Separación de ácidos nucleico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en geles de agarosa. Electroforesis se realiza en forma horizontal. Ácidos nucleicos se visualizan en el ultravioleta después de agregar bromuro de eti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eparación de proteínas y de ácidos nucleicos por electrofor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10280" y="2819520"/>
            <a:ext cx="167652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590920"/>
            <a:ext cx="16765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10280" y="5029200"/>
            <a:ext cx="167652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0280" y="4800600"/>
            <a:ext cx="16765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8880" y="2895480"/>
            <a:ext cx="1143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0" y="2895480"/>
            <a:ext cx="22860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0" y="5105520"/>
            <a:ext cx="22860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00600" y="2209680"/>
            <a:ext cx="304920" cy="304920"/>
          </a:xfrm>
          <a:prstGeom prst="flowChartDelay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228600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243828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236232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57600" y="3200400"/>
            <a:ext cx="205740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35812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35812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9880" y="41911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4495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4191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4120" y="41911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51360" y="2362320"/>
            <a:ext cx="419040" cy="838080"/>
          </a:xfrm>
          <a:custGeom>
            <a:avLst/>
            <a:gdLst/>
            <a:ahLst/>
            <a:rect l="l" t="t" r="r" b="b"/>
            <a:pathLst>
              <a:path w="264" h="528">
                <a:moveTo>
                  <a:pt x="160" y="0"/>
                </a:moveTo>
                <a:cubicBezTo>
                  <a:pt x="204" y="8"/>
                  <a:pt x="248" y="16"/>
                  <a:pt x="256" y="48"/>
                </a:cubicBezTo>
                <a:cubicBezTo>
                  <a:pt x="264" y="80"/>
                  <a:pt x="240" y="152"/>
                  <a:pt x="208" y="192"/>
                </a:cubicBezTo>
                <a:cubicBezTo>
                  <a:pt x="176" y="232"/>
                  <a:pt x="96" y="264"/>
                  <a:pt x="64" y="288"/>
                </a:cubicBezTo>
                <a:cubicBezTo>
                  <a:pt x="32" y="312"/>
                  <a:pt x="24" y="312"/>
                  <a:pt x="16" y="336"/>
                </a:cubicBezTo>
                <a:cubicBezTo>
                  <a:pt x="8" y="360"/>
                  <a:pt x="0" y="400"/>
                  <a:pt x="16" y="432"/>
                </a:cubicBezTo>
                <a:cubicBezTo>
                  <a:pt x="32" y="464"/>
                  <a:pt x="88" y="512"/>
                  <a:pt x="112" y="52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10080" y="2959200"/>
            <a:ext cx="1447920" cy="1333440"/>
          </a:xfrm>
          <a:custGeom>
            <a:avLst/>
            <a:gdLst/>
            <a:ahLst/>
            <a:rect l="l" t="t" r="r" b="b"/>
            <a:pathLst>
              <a:path w="912" h="840">
                <a:moveTo>
                  <a:pt x="0" y="824"/>
                </a:moveTo>
                <a:cubicBezTo>
                  <a:pt x="48" y="832"/>
                  <a:pt x="96" y="840"/>
                  <a:pt x="144" y="824"/>
                </a:cubicBezTo>
                <a:cubicBezTo>
                  <a:pt x="192" y="808"/>
                  <a:pt x="256" y="760"/>
                  <a:pt x="288" y="728"/>
                </a:cubicBezTo>
                <a:cubicBezTo>
                  <a:pt x="320" y="696"/>
                  <a:pt x="320" y="688"/>
                  <a:pt x="336" y="632"/>
                </a:cubicBezTo>
                <a:cubicBezTo>
                  <a:pt x="352" y="576"/>
                  <a:pt x="360" y="456"/>
                  <a:pt x="384" y="392"/>
                </a:cubicBezTo>
                <a:cubicBezTo>
                  <a:pt x="408" y="328"/>
                  <a:pt x="448" y="288"/>
                  <a:pt x="480" y="248"/>
                </a:cubicBezTo>
                <a:cubicBezTo>
                  <a:pt x="512" y="208"/>
                  <a:pt x="552" y="184"/>
                  <a:pt x="576" y="152"/>
                </a:cubicBezTo>
                <a:cubicBezTo>
                  <a:pt x="600" y="120"/>
                  <a:pt x="584" y="80"/>
                  <a:pt x="624" y="56"/>
                </a:cubicBezTo>
                <a:cubicBezTo>
                  <a:pt x="664" y="32"/>
                  <a:pt x="768" y="16"/>
                  <a:pt x="816" y="8"/>
                </a:cubicBezTo>
                <a:cubicBezTo>
                  <a:pt x="864" y="0"/>
                  <a:pt x="896" y="8"/>
                  <a:pt x="912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5029200"/>
            <a:ext cx="23619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5410080"/>
            <a:ext cx="3808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5257800"/>
            <a:ext cx="23619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5410080"/>
            <a:ext cx="3808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5410080"/>
            <a:ext cx="380880" cy="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71800" y="5410080"/>
            <a:ext cx="380880" cy="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54864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54864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33412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4572000"/>
            <a:ext cx="711360" cy="1079640"/>
          </a:xfrm>
          <a:custGeom>
            <a:avLst/>
            <a:gdLst/>
            <a:ahLst/>
            <a:rect l="l" t="t" r="r" b="b"/>
            <a:pathLst>
              <a:path w="448" h="680">
                <a:moveTo>
                  <a:pt x="0" y="624"/>
                </a:moveTo>
                <a:cubicBezTo>
                  <a:pt x="56" y="652"/>
                  <a:pt x="112" y="680"/>
                  <a:pt x="144" y="672"/>
                </a:cubicBezTo>
                <a:cubicBezTo>
                  <a:pt x="176" y="664"/>
                  <a:pt x="160" y="616"/>
                  <a:pt x="192" y="576"/>
                </a:cubicBezTo>
                <a:cubicBezTo>
                  <a:pt x="224" y="536"/>
                  <a:pt x="296" y="480"/>
                  <a:pt x="336" y="432"/>
                </a:cubicBezTo>
                <a:cubicBezTo>
                  <a:pt x="376" y="384"/>
                  <a:pt x="416" y="360"/>
                  <a:pt x="432" y="288"/>
                </a:cubicBezTo>
                <a:cubicBezTo>
                  <a:pt x="448" y="216"/>
                  <a:pt x="432" y="48"/>
                  <a:pt x="43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5480" y="4241880"/>
            <a:ext cx="3060720" cy="1371600"/>
          </a:xfrm>
          <a:custGeom>
            <a:avLst/>
            <a:gdLst/>
            <a:ahLst/>
            <a:rect l="l" t="t" r="r" b="b"/>
            <a:pathLst>
              <a:path w="1928" h="864">
                <a:moveTo>
                  <a:pt x="200" y="832"/>
                </a:moveTo>
                <a:cubicBezTo>
                  <a:pt x="144" y="848"/>
                  <a:pt x="88" y="864"/>
                  <a:pt x="56" y="832"/>
                </a:cubicBezTo>
                <a:cubicBezTo>
                  <a:pt x="24" y="800"/>
                  <a:pt x="16" y="720"/>
                  <a:pt x="8" y="640"/>
                </a:cubicBezTo>
                <a:cubicBezTo>
                  <a:pt x="0" y="560"/>
                  <a:pt x="0" y="416"/>
                  <a:pt x="8" y="352"/>
                </a:cubicBezTo>
                <a:cubicBezTo>
                  <a:pt x="16" y="288"/>
                  <a:pt x="0" y="280"/>
                  <a:pt x="56" y="256"/>
                </a:cubicBezTo>
                <a:cubicBezTo>
                  <a:pt x="112" y="232"/>
                  <a:pt x="256" y="224"/>
                  <a:pt x="344" y="208"/>
                </a:cubicBezTo>
                <a:cubicBezTo>
                  <a:pt x="432" y="192"/>
                  <a:pt x="496" y="176"/>
                  <a:pt x="584" y="160"/>
                </a:cubicBezTo>
                <a:cubicBezTo>
                  <a:pt x="672" y="144"/>
                  <a:pt x="776" y="120"/>
                  <a:pt x="872" y="112"/>
                </a:cubicBezTo>
                <a:cubicBezTo>
                  <a:pt x="968" y="104"/>
                  <a:pt x="1064" y="128"/>
                  <a:pt x="1160" y="112"/>
                </a:cubicBezTo>
                <a:cubicBezTo>
                  <a:pt x="1256" y="96"/>
                  <a:pt x="1376" y="32"/>
                  <a:pt x="1448" y="16"/>
                </a:cubicBezTo>
                <a:cubicBezTo>
                  <a:pt x="1520" y="0"/>
                  <a:pt x="1512" y="16"/>
                  <a:pt x="1592" y="16"/>
                </a:cubicBezTo>
                <a:cubicBezTo>
                  <a:pt x="1672" y="16"/>
                  <a:pt x="1872" y="16"/>
                  <a:pt x="1928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5080" y="5943600"/>
            <a:ext cx="408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ámara de electroforesis horizo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75000" y="5486400"/>
            <a:ext cx="37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ámara de electroforesis 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32640" y="2666880"/>
            <a:ext cx="195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uente de p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72280" y="4572000"/>
            <a:ext cx="1562040" cy="609480"/>
          </a:xfrm>
          <a:custGeom>
            <a:avLst/>
            <a:gdLst/>
            <a:ahLst/>
            <a:rect l="l" t="t" r="r" b="b"/>
            <a:pathLst>
              <a:path w="984" h="384">
                <a:moveTo>
                  <a:pt x="24" y="0"/>
                </a:moveTo>
                <a:cubicBezTo>
                  <a:pt x="12" y="28"/>
                  <a:pt x="0" y="56"/>
                  <a:pt x="24" y="96"/>
                </a:cubicBezTo>
                <a:cubicBezTo>
                  <a:pt x="48" y="136"/>
                  <a:pt x="120" y="200"/>
                  <a:pt x="168" y="240"/>
                </a:cubicBezTo>
                <a:cubicBezTo>
                  <a:pt x="216" y="280"/>
                  <a:pt x="256" y="312"/>
                  <a:pt x="312" y="336"/>
                </a:cubicBezTo>
                <a:cubicBezTo>
                  <a:pt x="368" y="360"/>
                  <a:pt x="440" y="384"/>
                  <a:pt x="504" y="384"/>
                </a:cubicBezTo>
                <a:cubicBezTo>
                  <a:pt x="568" y="384"/>
                  <a:pt x="616" y="336"/>
                  <a:pt x="696" y="336"/>
                </a:cubicBezTo>
                <a:cubicBezTo>
                  <a:pt x="776" y="336"/>
                  <a:pt x="936" y="376"/>
                  <a:pt x="984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eparación de proteínas y de ácidos nucleicos por electrofor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2438280"/>
            <a:ext cx="1676520" cy="335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20574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19810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57400" y="19810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19810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1905120"/>
            <a:ext cx="16765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4952880"/>
            <a:ext cx="22860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3880" y="4419720"/>
            <a:ext cx="228600" cy="75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4191120"/>
            <a:ext cx="228600" cy="75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3200400"/>
            <a:ext cx="22860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2971800"/>
            <a:ext cx="22860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2743200"/>
            <a:ext cx="22860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3200400"/>
            <a:ext cx="22860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2819520"/>
            <a:ext cx="228600" cy="75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2666880"/>
            <a:ext cx="22860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57400" y="3962520"/>
            <a:ext cx="228600" cy="75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7400" y="3809880"/>
            <a:ext cx="22860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3505320"/>
            <a:ext cx="228600" cy="75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3352680"/>
            <a:ext cx="22860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2819520"/>
            <a:ext cx="228600" cy="75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4419720"/>
            <a:ext cx="228600" cy="75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90920" y="3962520"/>
            <a:ext cx="228600" cy="75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3505320"/>
            <a:ext cx="228600" cy="75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7600" y="53341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3920" y="20574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2286000"/>
            <a:ext cx="1676160" cy="33526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2666880"/>
            <a:ext cx="2286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2666880"/>
            <a:ext cx="2286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2666880"/>
            <a:ext cx="2286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9920" y="3200400"/>
            <a:ext cx="228600" cy="7632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53080" y="3352680"/>
            <a:ext cx="228600" cy="7632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9920" y="3886200"/>
            <a:ext cx="228600" cy="7632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3505320"/>
            <a:ext cx="228600" cy="7596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86600" y="3429000"/>
            <a:ext cx="228600" cy="7632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86600" y="4191120"/>
            <a:ext cx="228600" cy="7596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6560" y="6019920"/>
            <a:ext cx="35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Tinción con Azul de Coomass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48200" y="5943600"/>
            <a:ext cx="34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Tinción con bromuro de eti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920" y="22096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59600" y="51055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1T19:59:28Z</dcterms:created>
  <dc:creator>Direccion de Informatica</dc:creator>
  <dc:description/>
  <dc:language>en-US</dc:language>
  <cp:lastModifiedBy>Luz María Perez</cp:lastModifiedBy>
  <dcterms:modified xsi:type="dcterms:W3CDTF">2001-04-04T18:11:23Z</dcterms:modified>
  <cp:revision>30</cp:revision>
  <dc:subject/>
  <dc:title>Función de proteínas: catalizadores</dc:title>
</cp:coreProperties>
</file>